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zipby102.wav" ContentType="audio/x-wav"/>
  <Override PartName="/ppt/media/children%20wow.wav" ContentType="audio/x-wav"/>
  <Override PartName="/ppt/media/zipdn102.wav" ContentType="audio/x-wav"/>
  <Override PartName="/ppt/media/PROJCTOR.WAV" ContentType="audio/x-wav"/>
  <Override PartName="/ppt/media/zapbig0g.wav" ContentType="audio/x-wav"/>
  <Override PartName="/ppt/media/camera.wav" ContentType="audio/x-wav"/>
  <Override PartName="/ppt/media/highchime.wav" ContentType="audio/x-wav"/>
  <Override PartName="/ppt/media/boinng04.wav" ContentType="audio/x-wav"/>
  <Override PartName="/ppt/media/partyhorn.wav" ContentType="audio/x-wav"/>
  <Override PartName="/ppt/media/bserie06.wav" ContentType="audio/x-wav"/>
  <Override PartName="/ppt/media/caralarmoff.wav" ContentType="audio/x-wav"/>
  <Override PartName="/ppt/media/hzipup01.wav" ContentType="audio/x-wav"/>
  <Override PartName="/ppt/media/glass.wav" ContentType="audio/x-wav"/>
  <Override PartName="/ppt/media/peopleooo.wav" ContentType="audio/x-wav"/>
  <Override PartName="/ppt/media/zipup202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DB3F-2241-4458-BAFF-1D022DED5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9AD9-48F1-4273-B635-13D9AD886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FB52-C516-4CD8-B66B-A6A36C75D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8940-785C-457F-A692-D7E889CA3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9081-CC9B-44BD-97C1-FD7EDBFDF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2628-562C-4BF7-A510-C7E2F0AAF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6AE3-3FEC-4670-AF47-960E85384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0AC6-5D62-4400-B2D4-6B0977E09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247E-7590-46E2-B505-1249D3F04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B345-0C2A-434A-88CD-B7C0B46C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0EBA-6E8A-425E-958E-AEBD1FD05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D108-9D4F-48A5-9AEB-011D297DE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D4A6B-F153-402B-B5E2-F54F768C92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zipdn102.wav"/><Relationship Id="rId2" Type="http://schemas.openxmlformats.org/officeDocument/2006/relationships/audio" Target="../media/PROJCTOR.WAV"/><Relationship Id="rId3" Type="http://schemas.openxmlformats.org/officeDocument/2006/relationships/audio" Target="../media/highchime.wav"/><Relationship Id="rId4" Type="http://schemas.openxmlformats.org/officeDocument/2006/relationships/audio" Target="../media/partyhorn.wav"/><Relationship Id="rId5" Type="http://schemas.openxmlformats.org/officeDocument/2006/relationships/audio" Target="../media/partyhorn.wav"/><Relationship Id="rId6" Type="http://schemas.openxmlformats.org/officeDocument/2006/relationships/audio" Target="../media/bserie06.wav"/><Relationship Id="rId7" Type="http://schemas.openxmlformats.org/officeDocument/2006/relationships/audio" Target="../media/caralarmoff.wav"/><Relationship Id="rId8" Type="http://schemas.openxmlformats.org/officeDocument/2006/relationships/audio" Target="../media/caralarmoff.wav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zapbig0g.wav"/><Relationship Id="rId3" Type="http://schemas.openxmlformats.org/officeDocument/2006/relationships/audio" Target="../media/glass.wav"/><Relationship Id="rId4" Type="http://schemas.openxmlformats.org/officeDocument/2006/relationships/audio" Target="../media/caralarmoff.wav"/><Relationship Id="rId5" Type="http://schemas.openxmlformats.org/officeDocument/2006/relationships/audio" Target="../media/caralarmoff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zipup202.wav"/><Relationship Id="rId9" Type="http://schemas.openxmlformats.org/officeDocument/2006/relationships/audio" Target="../media/hzipup01.wav"/><Relationship Id="rId10" Type="http://schemas.openxmlformats.org/officeDocument/2006/relationships/audio" Target="../media/peopleooo.wav"/><Relationship Id="rId11" Type="http://schemas.openxmlformats.org/officeDocument/2006/relationships/audio" Target="../media/bserie06.wav"/><Relationship Id="rId12" Type="http://schemas.openxmlformats.org/officeDocument/2006/relationships/audio" Target="../media/bserie06.wav"/><Relationship Id="rId13" Type="http://schemas.openxmlformats.org/officeDocument/2006/relationships/audio" Target="../media/zipup202.wav"/><Relationship Id="rId14" Type="http://schemas.openxmlformats.org/officeDocument/2006/relationships/audio" Target="../media/hzipup01.wav"/><Relationship Id="rId15" Type="http://schemas.openxmlformats.org/officeDocument/2006/relationships/audio" Target="../media/peopleooo.wav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caralarmoff.wav"/><Relationship Id="rId3" Type="http://schemas.openxmlformats.org/officeDocument/2006/relationships/audio" Target="../media/caralarmoff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zipup202.wav"/><Relationship Id="rId7" Type="http://schemas.openxmlformats.org/officeDocument/2006/relationships/audio" Target="../media/hzipup01.wav"/><Relationship Id="rId8" Type="http://schemas.openxmlformats.org/officeDocument/2006/relationships/audio" Target="../media/peopleooo.wav"/><Relationship Id="rId9" Type="http://schemas.openxmlformats.org/officeDocument/2006/relationships/audio" Target="../media/bserie06.wav"/><Relationship Id="rId10" Type="http://schemas.openxmlformats.org/officeDocument/2006/relationships/audio" Target="../media/bserie06.wav"/><Relationship Id="rId11" Type="http://schemas.openxmlformats.org/officeDocument/2006/relationships/audio" Target="../media/zipup202.wav"/><Relationship Id="rId12" Type="http://schemas.openxmlformats.org/officeDocument/2006/relationships/audio" Target="../media/hzipup01.wav"/><Relationship Id="rId13" Type="http://schemas.openxmlformats.org/officeDocument/2006/relationships/audio" Target="../media/peopleooo.wav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caralarmoff.wav"/><Relationship Id="rId3" Type="http://schemas.openxmlformats.org/officeDocument/2006/relationships/audio" Target="../media/caralarmoff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zipup202.wav"/><Relationship Id="rId7" Type="http://schemas.openxmlformats.org/officeDocument/2006/relationships/audio" Target="../media/hzipup01.wav"/><Relationship Id="rId8" Type="http://schemas.openxmlformats.org/officeDocument/2006/relationships/audio" Target="../media/peopleooo.wav"/><Relationship Id="rId9" Type="http://schemas.openxmlformats.org/officeDocument/2006/relationships/audio" Target="../media/bserie06.wav"/><Relationship Id="rId10" Type="http://schemas.openxmlformats.org/officeDocument/2006/relationships/audio" Target="../media/bserie06.wav"/><Relationship Id="rId11" Type="http://schemas.openxmlformats.org/officeDocument/2006/relationships/audio" Target="../media/zipup202.wav"/><Relationship Id="rId12" Type="http://schemas.openxmlformats.org/officeDocument/2006/relationships/audio" Target="../media/hzipup01.wav"/><Relationship Id="rId13" Type="http://schemas.openxmlformats.org/officeDocument/2006/relationships/audio" Target="../media/peopleooo.wav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caralarmoff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zipup202.wav"/><Relationship Id="rId6" Type="http://schemas.openxmlformats.org/officeDocument/2006/relationships/audio" Target="../media/hzipup01.wav"/><Relationship Id="rId7" Type="http://schemas.openxmlformats.org/officeDocument/2006/relationships/audio" Target="../media/peopleooo.wav"/><Relationship Id="rId8" Type="http://schemas.openxmlformats.org/officeDocument/2006/relationships/audio" Target="../media/glass.wav"/><Relationship Id="rId9" Type="http://schemas.openxmlformats.org/officeDocument/2006/relationships/audio" Target="../media/caralarmoff.wav"/><Relationship Id="rId10" Type="http://schemas.openxmlformats.org/officeDocument/2006/relationships/audio" Target="../media/bserie06.wav"/><Relationship Id="rId11" Type="http://schemas.openxmlformats.org/officeDocument/2006/relationships/audio" Target="../media/bserie06.wav"/><Relationship Id="rId12" Type="http://schemas.openxmlformats.org/officeDocument/2006/relationships/audio" Target="../media/zipup202.wav"/><Relationship Id="rId13" Type="http://schemas.openxmlformats.org/officeDocument/2006/relationships/audio" Target="../media/hzipup01.wav"/><Relationship Id="rId14" Type="http://schemas.openxmlformats.org/officeDocument/2006/relationships/audio" Target="../media/peopleooo.wav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caralarmoff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zipup202.wav"/><Relationship Id="rId6" Type="http://schemas.openxmlformats.org/officeDocument/2006/relationships/audio" Target="../media/zipdn102.wav"/><Relationship Id="rId7" Type="http://schemas.openxmlformats.org/officeDocument/2006/relationships/audio" Target="../media/zipdn102.wav"/><Relationship Id="rId8" Type="http://schemas.openxmlformats.org/officeDocument/2006/relationships/audio" Target="../media/zipby102.wav"/><Relationship Id="rId9" Type="http://schemas.openxmlformats.org/officeDocument/2006/relationships/audio" Target="../media/boinng04.wav"/><Relationship Id="rId10" Type="http://schemas.openxmlformats.org/officeDocument/2006/relationships/audio" Target="../media/zipby102.wav"/><Relationship Id="rId11" Type="http://schemas.openxmlformats.org/officeDocument/2006/relationships/audio" Target="../media/boinng04.wav"/><Relationship Id="rId12" Type="http://schemas.openxmlformats.org/officeDocument/2006/relationships/audio" Target="../media/hzipup01.wav"/><Relationship Id="rId13" Type="http://schemas.openxmlformats.org/officeDocument/2006/relationships/audio" Target="../media/peopleooo.wav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partyhorn.wav"/><Relationship Id="rId2" Type="http://schemas.openxmlformats.org/officeDocument/2006/relationships/audio" Target="../media/glass.wav"/><Relationship Id="rId3" Type="http://schemas.openxmlformats.org/officeDocument/2006/relationships/audio" Target="../media/caralarmoff.wav"/><Relationship Id="rId4" Type="http://schemas.openxmlformats.org/officeDocument/2006/relationships/audio" Target="../media/caralarmoff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zipup202.wav"/><Relationship Id="rId8" Type="http://schemas.openxmlformats.org/officeDocument/2006/relationships/audio" Target="../media/hzipup01.wav"/><Relationship Id="rId9" Type="http://schemas.openxmlformats.org/officeDocument/2006/relationships/audio" Target="../media/peopleooo.wav"/><Relationship Id="rId10" Type="http://schemas.openxmlformats.org/officeDocument/2006/relationships/audio" Target="../media/bserie06.wav"/><Relationship Id="rId11" Type="http://schemas.openxmlformats.org/officeDocument/2006/relationships/audio" Target="../media/bserie06.wav"/><Relationship Id="rId12" Type="http://schemas.openxmlformats.org/officeDocument/2006/relationships/audio" Target="../media/zipup202.wav"/><Relationship Id="rId13" Type="http://schemas.openxmlformats.org/officeDocument/2006/relationships/audio" Target="../media/hzipup01.wav"/><Relationship Id="rId14" Type="http://schemas.openxmlformats.org/officeDocument/2006/relationships/audio" Target="../media/peopleooo.wav"/><Relationship Id="rId15" Type="http://schemas.openxmlformats.org/officeDocument/2006/relationships/audio" Target="../media/zipby102.wav"/><Relationship Id="rId16" Type="http://schemas.openxmlformats.org/officeDocument/2006/relationships/audio" Target="../media/zipby102.wav"/><Relationship Id="rId17" Type="http://schemas.openxmlformats.org/officeDocument/2006/relationships/audio" Target="../media/caralarmoff.wav"/><Relationship Id="rId18" Type="http://schemas.openxmlformats.org/officeDocument/2006/relationships/audio" Target="../media/caralarmoff.wav"/><Relationship Id="rId19" Type="http://schemas.openxmlformats.org/officeDocument/2006/relationships/audio" Target="../media/caralarmoff.wav"/><Relationship Id="rId20" Type="http://schemas.openxmlformats.org/officeDocument/2006/relationships/audio" Target="../media/children%20wow.wav"/><Relationship Id="rId21" Type="http://schemas.openxmlformats.org/officeDocument/2006/relationships/audio" Target="../media/caralarmoff.wav"/><Relationship Id="rId22" Type="http://schemas.openxmlformats.org/officeDocument/2006/relationships/audio" Target="../media/caralarmoff.wav"/><Relationship Id="rId23" Type="http://schemas.openxmlformats.org/officeDocument/2006/relationships/audio" Target="../media/caralarmoff.wav"/><Relationship Id="rId24" Type="http://schemas.openxmlformats.org/officeDocument/2006/relationships/audio" Target="../media/children%20wow.wav"/><Relationship Id="rId2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caralarmoff.wav"/><Relationship Id="rId3" Type="http://schemas.openxmlformats.org/officeDocument/2006/relationships/audio" Target="../media/caralarmoff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zipup202.wav"/><Relationship Id="rId7" Type="http://schemas.openxmlformats.org/officeDocument/2006/relationships/audio" Target="../media/hzipup01.wav"/><Relationship Id="rId8" Type="http://schemas.openxmlformats.org/officeDocument/2006/relationships/audio" Target="../media/peopleooo.wav"/><Relationship Id="rId9" Type="http://schemas.openxmlformats.org/officeDocument/2006/relationships/audio" Target="../media/bserie06.wav"/><Relationship Id="rId10" Type="http://schemas.openxmlformats.org/officeDocument/2006/relationships/audio" Target="../media/bserie06.wav"/><Relationship Id="rId11" Type="http://schemas.openxmlformats.org/officeDocument/2006/relationships/audio" Target="../media/zipup202.wav"/><Relationship Id="rId12" Type="http://schemas.openxmlformats.org/officeDocument/2006/relationships/audio" Target="../media/hzipup01.wav"/><Relationship Id="rId13" Type="http://schemas.openxmlformats.org/officeDocument/2006/relationships/audio" Target="../media/peopleooo.wav"/><Relationship Id="rId14" Type="http://schemas.openxmlformats.org/officeDocument/2006/relationships/audio" Target="../media/zipby102.wav"/><Relationship Id="rId15" Type="http://schemas.openxmlformats.org/officeDocument/2006/relationships/audio" Target="../media/zipby102.wav"/><Relationship Id="rId16" Type="http://schemas.openxmlformats.org/officeDocument/2006/relationships/audio" Target="../media/caralarmoff.wav"/><Relationship Id="rId17" Type="http://schemas.openxmlformats.org/officeDocument/2006/relationships/audio" Target="../media/caralarmoff.wav"/><Relationship Id="rId18" Type="http://schemas.openxmlformats.org/officeDocument/2006/relationships/audio" Target="../media/caralarmoff.wav"/><Relationship Id="rId19" Type="http://schemas.openxmlformats.org/officeDocument/2006/relationships/audio" Target="../media/children%20wow.wav"/><Relationship Id="rId20" Type="http://schemas.openxmlformats.org/officeDocument/2006/relationships/audio" Target="../media/caralarmoff.wav"/><Relationship Id="rId21" Type="http://schemas.openxmlformats.org/officeDocument/2006/relationships/audio" Target="../media/caralarmoff.wav"/><Relationship Id="rId22" Type="http://schemas.openxmlformats.org/officeDocument/2006/relationships/audio" Target="../media/caralarmoff.wav"/><Relationship Id="rId23" Type="http://schemas.openxmlformats.org/officeDocument/2006/relationships/audio" Target="../media/children%20wow.wav"/><Relationship Id="rId2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caralarmoff.wav"/><Relationship Id="rId3" Type="http://schemas.openxmlformats.org/officeDocument/2006/relationships/audio" Target="../media/caralarmoff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zipup202.wav"/><Relationship Id="rId7" Type="http://schemas.openxmlformats.org/officeDocument/2006/relationships/audio" Target="../media/hzipup01.wav"/><Relationship Id="rId8" Type="http://schemas.openxmlformats.org/officeDocument/2006/relationships/audio" Target="../media/peopleooo.wav"/><Relationship Id="rId9" Type="http://schemas.openxmlformats.org/officeDocument/2006/relationships/audio" Target="../media/bserie06.wav"/><Relationship Id="rId10" Type="http://schemas.openxmlformats.org/officeDocument/2006/relationships/audio" Target="../media/bserie06.wav"/><Relationship Id="rId11" Type="http://schemas.openxmlformats.org/officeDocument/2006/relationships/audio" Target="../media/zipup202.wav"/><Relationship Id="rId12" Type="http://schemas.openxmlformats.org/officeDocument/2006/relationships/audio" Target="../media/hzipup01.wav"/><Relationship Id="rId13" Type="http://schemas.openxmlformats.org/officeDocument/2006/relationships/audio" Target="../media/peopleooo.wav"/><Relationship Id="rId14" Type="http://schemas.openxmlformats.org/officeDocument/2006/relationships/audio" Target="../media/zipby102.wav"/><Relationship Id="rId15" Type="http://schemas.openxmlformats.org/officeDocument/2006/relationships/audio" Target="../media/zipby102.wav"/><Relationship Id="rId16" Type="http://schemas.openxmlformats.org/officeDocument/2006/relationships/audio" Target="../media/caralarmoff.wav"/><Relationship Id="rId17" Type="http://schemas.openxmlformats.org/officeDocument/2006/relationships/audio" Target="../media/caralarmoff.wav"/><Relationship Id="rId18" Type="http://schemas.openxmlformats.org/officeDocument/2006/relationships/audio" Target="../media/caralarmoff.wav"/><Relationship Id="rId19" Type="http://schemas.openxmlformats.org/officeDocument/2006/relationships/audio" Target="../media/children%20wow.wav"/><Relationship Id="rId20" Type="http://schemas.openxmlformats.org/officeDocument/2006/relationships/audio" Target="../media/caralarmoff.wav"/><Relationship Id="rId21" Type="http://schemas.openxmlformats.org/officeDocument/2006/relationships/audio" Target="../media/caralarmoff.wav"/><Relationship Id="rId22" Type="http://schemas.openxmlformats.org/officeDocument/2006/relationships/audio" Target="../media/caralarmoff.wav"/><Relationship Id="rId23" Type="http://schemas.openxmlformats.org/officeDocument/2006/relationships/audio" Target="../media/children%20wow.wav"/><Relationship Id="rId2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1676520"/>
            <a:ext cx="8686800" cy="403380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858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ero-Product Prope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58880" y="1755720"/>
            <a:ext cx="76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Zero-Product Proper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1373040" y="4719600"/>
                <a:ext cx="246564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4737240" y="4667400"/>
                <a:ext cx="246528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649440" y="2281320"/>
            <a:ext cx="7600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if the product of two factors is zero, then at least one of the factors must be zer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2211480" y="3941640"/>
                <a:ext cx="453528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546120" y="1701720"/>
                <a:ext cx="445464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the Zero-Product Prope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777960" y="2414520"/>
                <a:ext cx="246204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>
            <a:off x="168120" y="1163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 the equ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3983040" y="2370240"/>
                <a:ext cx="246528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224000" y="3008160"/>
                <a:ext cx="10080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2271600" y="3011400"/>
                <a:ext cx="10080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4437000" y="2975040"/>
                <a:ext cx="10080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5504040" y="2960640"/>
                <a:ext cx="10080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784080" y="3732120"/>
            <a:ext cx="253692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59280" y="3735360"/>
            <a:ext cx="253692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1660680" y="3889440"/>
                <a:ext cx="55872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2232000" y="3687840"/>
                <a:ext cx="106380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4871880" y="3875040"/>
                <a:ext cx="5590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5433840" y="3672000"/>
                <a:ext cx="145584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522360" y="1701720"/>
                <a:ext cx="450216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the Zero-Product Prope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49160" y="2359080"/>
                <a:ext cx="251964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168120" y="1163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 the equ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4011480" y="2314440"/>
                <a:ext cx="240840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1224000" y="3008160"/>
                <a:ext cx="10080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2271600" y="3011400"/>
                <a:ext cx="10080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4492800" y="3002040"/>
                <a:ext cx="89676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5559480" y="2987640"/>
                <a:ext cx="89532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784080" y="3732120"/>
            <a:ext cx="253692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959280" y="3735360"/>
            <a:ext cx="253692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1631880" y="3807000"/>
                <a:ext cx="61596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232000" y="3687840"/>
                <a:ext cx="106380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4843440" y="3790800"/>
                <a:ext cx="61596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5405400" y="3681360"/>
                <a:ext cx="95256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450720" y="1701720"/>
                <a:ext cx="464508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the Zero-Product Prope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720720" y="2414520"/>
                <a:ext cx="257652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168120" y="1163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 the equ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3956040" y="2370240"/>
                <a:ext cx="251928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1224000" y="2981160"/>
                <a:ext cx="100800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2271600" y="2982960"/>
                <a:ext cx="100800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4437000" y="2973240"/>
                <a:ext cx="100800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5504040" y="2960640"/>
                <a:ext cx="10062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784080" y="3732120"/>
            <a:ext cx="253692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59280" y="3735360"/>
            <a:ext cx="253692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631880" y="3862440"/>
                <a:ext cx="61596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2205000" y="3714840"/>
                <a:ext cx="14558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843440" y="3846600"/>
                <a:ext cx="61596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386320" y="3689280"/>
                <a:ext cx="140184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565200" y="1692360"/>
                <a:ext cx="3255840" cy="90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the Zero-Product Prope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336680" y="2433600"/>
                <a:ext cx="235260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168120" y="1163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 the equ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5599080" y="2314440"/>
                <a:ext cx="251928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728720" y="3009960"/>
                <a:ext cx="10080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776680" y="2992320"/>
                <a:ext cx="100800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6080040" y="2973240"/>
                <a:ext cx="100800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7147080" y="2960640"/>
                <a:ext cx="10062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1289160" y="3751200"/>
            <a:ext cx="25365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602320" y="3735360"/>
            <a:ext cx="253692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220840" y="3825720"/>
                <a:ext cx="44784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717640" y="3706920"/>
                <a:ext cx="106524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6486480" y="3828960"/>
                <a:ext cx="61596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7029360" y="3689280"/>
                <a:ext cx="140184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919760" y="1639800"/>
                <a:ext cx="3398760" cy="9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847800" y="1709640"/>
                <a:ext cx="3735360" cy="9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the Zero-Product Prope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243080" y="2395440"/>
                <a:ext cx="291312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168120" y="1163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 the equ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101680" y="2998800"/>
                <a:ext cx="100836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3149640" y="2981160"/>
                <a:ext cx="1008000" cy="7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1662120" y="3713040"/>
            <a:ext cx="253692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2341440" y="3760920"/>
                <a:ext cx="9525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3192480" y="3770280"/>
                <a:ext cx="14587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532240" y="5508720"/>
                <a:ext cx="61560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139920" y="5321160"/>
                <a:ext cx="145908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2370240" y="4441680"/>
            <a:ext cx="820800" cy="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72080" y="4444920"/>
            <a:ext cx="820440" cy="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63920" y="4427640"/>
                <a:ext cx="56016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967200" y="4411800"/>
                <a:ext cx="5605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425520" y="1770120"/>
                <a:ext cx="445428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lating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Intercepts and Fac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8120" y="1163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intercepts and the vertex of the fun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776160" y="2414520"/>
                <a:ext cx="246564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4040280" y="2370240"/>
                <a:ext cx="23511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224000" y="2952720"/>
                <a:ext cx="10080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271600" y="2955960"/>
                <a:ext cx="10080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4505400" y="2911320"/>
                <a:ext cx="89676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5510160" y="2913120"/>
                <a:ext cx="89388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771480" y="3632040"/>
            <a:ext cx="253692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946680" y="3635280"/>
            <a:ext cx="25365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1619280" y="3762360"/>
                <a:ext cx="61596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220840" y="3587760"/>
                <a:ext cx="139860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4830840" y="3746520"/>
                <a:ext cx="61596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5373720" y="3616200"/>
                <a:ext cx="14018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6764400" y="3281400"/>
            <a:ext cx="237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These are the </a:t>
            </a:r>
            <a:r>
              <a:rPr b="0" i="1" lang="en-US" sz="3200" spc="-1" strike="noStrike">
                <a:solidFill>
                  <a:srgbClr val="0099cc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-intercep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4149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To find the vertex, find the average of the </a:t>
            </a:r>
            <a:r>
              <a:rPr b="0" i="1" lang="en-US" sz="3200" spc="-1" strike="noStrike">
                <a:solidFill>
                  <a:srgbClr val="0066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-intercep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560520" y="4637160"/>
                <a:ext cx="1446120" cy="13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1957320" y="4637160"/>
                <a:ext cx="1276560" cy="13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200400" y="4987800"/>
                <a:ext cx="110664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5121360" y="5056200"/>
                <a:ext cx="286524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5641920" y="1793880"/>
                <a:ext cx="331956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6669000" y="2389320"/>
                <a:ext cx="1447920" cy="72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8080200" y="2443320"/>
                <a:ext cx="10638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6829560" y="5121360"/>
                <a:ext cx="88092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00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378000" y="1770120"/>
                <a:ext cx="454968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lating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Intercepts and Fac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8120" y="1163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intercepts and the vertex of the fun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776160" y="2414520"/>
                <a:ext cx="246564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3984480" y="2370240"/>
                <a:ext cx="246384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1197000" y="2979720"/>
                <a:ext cx="106344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244600" y="2982960"/>
                <a:ext cx="106380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4421160" y="2911320"/>
                <a:ext cx="10652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5427720" y="2913120"/>
                <a:ext cx="106056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771480" y="3632040"/>
            <a:ext cx="253692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46680" y="3635280"/>
            <a:ext cx="25365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1619280" y="3762360"/>
                <a:ext cx="61596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2219400" y="3586320"/>
                <a:ext cx="106344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4830840" y="3746520"/>
                <a:ext cx="61596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5465880" y="3570120"/>
                <a:ext cx="1065240" cy="7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6764400" y="3281400"/>
            <a:ext cx="237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These are the </a:t>
            </a:r>
            <a:r>
              <a:rPr b="0" i="1" lang="en-US" sz="3200" spc="-1" strike="noStrike">
                <a:solidFill>
                  <a:srgbClr val="0099cc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-intercep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4149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To find the vertex, find the average of the </a:t>
            </a:r>
            <a:r>
              <a:rPr b="0" i="1" lang="en-US" sz="3200" spc="-1" strike="noStrike">
                <a:solidFill>
                  <a:srgbClr val="0066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-intercep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87240" y="4637160"/>
                <a:ext cx="1190880" cy="13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1922400" y="4637160"/>
                <a:ext cx="893880" cy="13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2832120" y="4979880"/>
                <a:ext cx="76500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5369040" y="5056200"/>
                <a:ext cx="236844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6215040" y="1730520"/>
                <a:ext cx="2597040" cy="72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6669000" y="2389320"/>
                <a:ext cx="1447920" cy="72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8080200" y="2443320"/>
                <a:ext cx="10638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6603840" y="5146560"/>
                <a:ext cx="8812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500"/>
                            </p:stCondLst>
                            <p:childTnLst>
                              <p:par>
                                <p:cTn id="5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1000"/>
                            </p:stCondLst>
                            <p:childTnLst>
                              <p:par>
                                <p:cTn id="5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500"/>
                            </p:stCondLst>
                            <p:childTnLst>
                              <p:par>
                                <p:cTn id="5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1000"/>
                            </p:stCondLst>
                            <p:childTnLst>
                              <p:par>
                                <p:cTn id="5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425520" y="1770120"/>
                <a:ext cx="445428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lating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Intercepts and Fac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68120" y="1163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intercepts and the vertex of the fun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831960" y="2414520"/>
                <a:ext cx="235260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3984480" y="2370240"/>
                <a:ext cx="246384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1281240" y="2979720"/>
                <a:ext cx="89532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328840" y="2982960"/>
                <a:ext cx="89532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4448160" y="2884320"/>
                <a:ext cx="100980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5454720" y="2886120"/>
                <a:ext cx="10047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771480" y="3632040"/>
            <a:ext cx="253692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46680" y="3635280"/>
            <a:ext cx="25365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1619280" y="3762360"/>
                <a:ext cx="61596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2274840" y="3586320"/>
                <a:ext cx="95112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4830840" y="3746520"/>
                <a:ext cx="61596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5297400" y="3543480"/>
                <a:ext cx="140184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>
            <a:off x="6764400" y="3281400"/>
            <a:ext cx="237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These are the </a:t>
            </a:r>
            <a:r>
              <a:rPr b="0" i="1" lang="en-US" sz="3200" spc="-1" strike="noStrike">
                <a:solidFill>
                  <a:srgbClr val="0099cc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-intercep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4149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To find the vertex, find the average of the </a:t>
            </a:r>
            <a:r>
              <a:rPr b="0" i="1" lang="en-US" sz="3200" spc="-1" strike="noStrike">
                <a:solidFill>
                  <a:srgbClr val="0066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-intercep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750960" y="4637160"/>
                <a:ext cx="1062000" cy="13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1770120" y="4637160"/>
                <a:ext cx="1276200" cy="13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2911320" y="4989600"/>
                <a:ext cx="110520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5121360" y="5056200"/>
                <a:ext cx="286380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5853240" y="1730520"/>
                <a:ext cx="3321000" cy="72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6605640" y="2389320"/>
                <a:ext cx="1574640" cy="72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8059680" y="2422440"/>
                <a:ext cx="11048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6788160" y="5068800"/>
                <a:ext cx="99072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500"/>
                            </p:stCondLst>
                            <p:childTnLst>
                              <p:par>
                                <p:cTn id="6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1000"/>
                            </p:stCondLst>
                            <p:childTnLst>
                              <p:par>
                                <p:cTn id="6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500"/>
                            </p:stCondLst>
                            <p:childTnLst>
                              <p:par>
                                <p:cTn id="7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.skelton</cp:lastModifiedBy>
  <dcterms:modified xsi:type="dcterms:W3CDTF">2003-02-04T16:18:43Z</dcterms:modified>
  <cp:revision>6</cp:revision>
  <dc:subject/>
  <dc:title>Slide 1</dc:title>
</cp:coreProperties>
</file>